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wmf" ContentType="image/x-wmf"/>
  <Override PartName="/ppt/media/image1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932988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ABB-D055-4BA5-B2AC-C50CFF8A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F89-0DDE-4BE7-B5A4-33857290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FCF-BECF-4D57-9898-07F7B533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190-317D-4514-824F-9B707DF1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805-EC45-490F-BEE2-EB9B457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4E4-5117-44EC-92C2-E964BAA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08C-0F14-4C05-9097-986F689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555-ECE8-41CF-BBAF-779E6F5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7D1-C204-4362-B6B1-DD4CA92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7A3-198A-42BB-98A8-81FC979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D2E-B01B-45CD-8FCF-227661B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F4F-2120-4057-BABD-A8C6D12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405-4769-4391-95CA-F52C4DC9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0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347400">
            <a:off x="456840" y="685440"/>
            <a:ext cx="7905600" cy="52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"PRACTICAL ENGLISH"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Restaurant Problems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5F1-D0E5-4E4C-B4A8-EF45DF9A730D}" type="slidenum">
              <a:t>1</a:t>
            </a:fld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up or soap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suːp /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əʊp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/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924280" cy="261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7874"/>
          <a:stretch/>
        </p:blipFill>
        <p:spPr>
          <a:xfrm>
            <a:off x="1523880" y="3505320"/>
            <a:ext cx="2221200" cy="261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11D-6C61-4B96-BC4E-DD628F659D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752480"/>
            <a:ext cx="7315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prɔːn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Prawn’ rhymes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‘yawn’ and ‘corn’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07080" y="1447920"/>
            <a:ext cx="2536920" cy="39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2DB-8BDB-4BE4-A2E3-15EA58E136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9810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ˡsæmən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mon’ has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ilent 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FA9-0AFA-400A-8FC8-E30D219283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315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steɪk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Steak’ rhymes with ‘break’ and ‘bake’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989"/>
          <a:stretch/>
        </p:blipFill>
        <p:spPr>
          <a:xfrm>
            <a:off x="6907320" y="1447920"/>
            <a:ext cx="2236680" cy="24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201-061B-4A58-BBAD-9AB435C51A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14600"/>
            <a:ext cx="754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reə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Rare’ rhymes with ‘care, chair’ and ‘wear’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ow to cook steak - pic showing clockwise rare, medium rare, medium and well done cooked steak fillets"/>
          <p:cNvPicPr/>
          <p:nvPr/>
        </p:nvPicPr>
        <p:blipFill>
          <a:blip r:embed="rId1"/>
          <a:srcRect l="0" t="0" r="50481" b="51583"/>
          <a:stretch/>
        </p:blipFill>
        <p:spPr>
          <a:xfrm>
            <a:off x="4419720" y="2209680"/>
            <a:ext cx="396216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C7E-C362-4631-A512-012196840B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7315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təˡmɑːtəʊ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To</a:t>
            </a: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’: the stress is on the long vowel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F97-52F3-405B-A14F-7CB765D2EB4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523880"/>
            <a:ext cx="73152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təˡmɑːtəʊ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To</a:t>
            </a: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’: the stress is on the long vowel.</a:t>
            </a:r>
            <a:br>
              <a:rPr sz="5400"/>
            </a:br>
            <a:r>
              <a:rPr b="1" lang="en-GB" sz="44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In the USA, </a:t>
            </a:r>
            <a:br>
              <a:rPr sz="4400"/>
            </a:br>
            <a:r>
              <a:rPr b="1" i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tomato </a:t>
            </a:r>
            <a:r>
              <a:rPr b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hymes with</a:t>
            </a:r>
            <a:r>
              <a:rPr b="1" i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pota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AC2-A8BA-4A87-9F74-8A98C4A959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spell...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810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es’ and ‘po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es’: add ‘es’ for the plur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E93-2FA8-4F6D-82B0-9187433910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44760" y="1676520"/>
            <a:ext cx="440208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A M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55A-1AA2-46DF-80BE-86B7A700F5D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-6812" t="-14202" r="0" b="10226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768320" cy="18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0CC-08F4-45DF-9D20-FAE7116FE6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6063" r="0" b="0"/>
          <a:stretch/>
        </p:blipFill>
        <p:spPr>
          <a:xfrm>
            <a:off x="380880" y="1905120"/>
            <a:ext cx="4017960" cy="4495680"/>
          </a:xfrm>
          <a:prstGeom prst="rect">
            <a:avLst/>
          </a:prstGeom>
          <a:ln w="254160">
            <a:solidFill>
              <a:srgbClr val="ff99cc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838080" y="304920"/>
            <a:ext cx="77724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ˡrestrɒŋ 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re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au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EE9-5E1C-4AD7-BDE5-00128A124E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76212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-6812" t="-14202" r="0" b="10226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768320" cy="18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58F-013B-4DE2-ABD9-216C2574D7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954-423C-4B1A-9B76-AD3BBE7D2A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62280" y="2048040"/>
            <a:ext cx="6381720" cy="487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67B-8ADB-4D19-BCF6-0DE2F7259F9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4600" y="457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62280" y="2048040"/>
            <a:ext cx="6381720" cy="4870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5D2-DCD6-45F5-AF96-A6C0138358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6A8-B91A-405F-A355-EFEC5951F0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14600" y="4572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307152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FB9-B01E-4194-A78C-07A39F2B36D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F1E-05E4-4825-AF01-102E62A328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133360" cy="2222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838188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17D-6E3F-4C01-B5DE-22B75EE6395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DC3-E6C9-45E2-B473-32D98665E8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14600" y="4572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  <a:ea typeface="Arial"/>
              </a:rPr>
              <a:t>£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0 no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2576520"/>
            <a:ext cx="7924680" cy="42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B1C-291E-4C44-9B56-8EAA7429E7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000000"/>
                </a:solidFill>
                <a:uFillTx/>
                <a:latin typeface="Arial"/>
              </a:rPr>
              <a:t>prob</a:t>
            </a: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lems</a:t>
            </a: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ˡprɒbləmz 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907" t="18507" r="5907" b="6169"/>
          <a:stretch/>
        </p:blipFill>
        <p:spPr>
          <a:xfrm>
            <a:off x="5943600" y="3048120"/>
            <a:ext cx="2673360" cy="218916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46" name="" descr="[Fly+in+soup.bmp]"/>
          <p:cNvPicPr/>
          <p:nvPr/>
        </p:nvPicPr>
        <p:blipFill>
          <a:blip r:embed="rId2"/>
          <a:srcRect l="9085" t="2362" r="9085" b="2362"/>
          <a:stretch/>
        </p:blipFill>
        <p:spPr>
          <a:xfrm>
            <a:off x="533520" y="3809880"/>
            <a:ext cx="4952880" cy="221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C24-92ED-4648-B704-540BA83AF9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437-E555-4A4F-9C53-ECCD28E90B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 take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0630" t="14079" r="10630" b="14079"/>
          <a:stretch/>
        </p:blipFill>
        <p:spPr>
          <a:xfrm>
            <a:off x="1219320" y="1676520"/>
            <a:ext cx="2746080" cy="1892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3" name="" descr="Thames Take Away"/>
          <p:cNvPicPr/>
          <p:nvPr/>
        </p:nvPicPr>
        <p:blipFill>
          <a:blip r:embed="rId2"/>
          <a:stretch/>
        </p:blipFill>
        <p:spPr>
          <a:xfrm>
            <a:off x="4343400" y="2590920"/>
            <a:ext cx="4267080" cy="3200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1695600" cy="17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391200" cy="215568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645-6744-4242-B8AA-B4F265DBB5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food to 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20071026_hollywoodChB076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490760"/>
            <a:ext cx="7810560" cy="5367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3D2-12F5-499B-A3F2-54DBC95E9E7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e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od to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1B-E90F-4A83-9EE0-60F55139166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44760" y="1676520"/>
            <a:ext cx="440208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A M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456-B30C-4C21-AD60-17722D80AF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fers: helping and rea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oblem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very sorry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it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pologis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you a new b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6063" r="0" b="0"/>
          <a:stretch/>
        </p:blipFill>
        <p:spPr>
          <a:xfrm>
            <a:off x="5867280" y="3048120"/>
            <a:ext cx="2656080" cy="2971800"/>
          </a:xfrm>
          <a:prstGeom prst="rect">
            <a:avLst/>
          </a:prstGeom>
          <a:ln w="254160">
            <a:solidFill>
              <a:srgbClr val="ff99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923-F633-45C5-B86D-31616B90E014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sta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er, main course, de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ssert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52920"/>
            <a:ext cx="346716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3848040" cy="27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16002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 and ham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berland 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4864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dɪˡzɜːt 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196-729F-4798-A34C-7D7451611F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152360" y="-385920"/>
            <a:ext cx="11448720" cy="762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d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D37-18E0-4CBC-9E1B-35B82FB306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rill, bake, f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86680" y="1447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905280"/>
            <a:ext cx="27622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3429000" cy="26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rcRect l="26455" t="11338" r="26455" b="11338"/>
          <a:stretch/>
        </p:blipFill>
        <p:spPr>
          <a:xfrm>
            <a:off x="6248520" y="1447920"/>
            <a:ext cx="898560" cy="147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144792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baked potato =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jacket spud</a:t>
            </a:r>
            <a:br>
              <a:rPr sz="4000"/>
            </a:b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4343400"/>
            <a:ext cx="2361960" cy="1981080"/>
          </a:xfrm>
          <a:prstGeom prst="upArrowCallout">
            <a:avLst>
              <a:gd name="adj1" fmla="val 9936"/>
              <a:gd name="adj2" fmla="val 13705"/>
              <a:gd name="adj3" fmla="val 16667"/>
              <a:gd name="adj4" fmla="val 53251"/>
            </a:avLst>
          </a:prstGeom>
          <a:solidFill>
            <a:srgbClr val="dddddd"/>
          </a:soli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frying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0A6-BD8F-433D-8038-8784E253A2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mush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oom, prawn, stea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30720" y="2057400"/>
            <a:ext cx="2536560" cy="390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54740" t="0" r="0" b="52658"/>
          <a:stretch/>
        </p:blipFill>
        <p:spPr>
          <a:xfrm>
            <a:off x="0" y="3352680"/>
            <a:ext cx="3349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0" t="0" r="0" b="989"/>
          <a:stretch/>
        </p:blipFill>
        <p:spPr>
          <a:xfrm>
            <a:off x="5867280" y="1447920"/>
            <a:ext cx="3276720" cy="36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622-F145-44D2-A1BB-86CC8F9C51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ow to cook steak - pic showing clockwise rare, medium rare, medium and well done cooked steak fillets"/>
          <p:cNvPicPr/>
          <p:nvPr/>
        </p:nvPicPr>
        <p:blipFill>
          <a:blip r:embed="rId1"/>
          <a:stretch/>
        </p:blipFill>
        <p:spPr>
          <a:xfrm>
            <a:off x="609480" y="2209680"/>
            <a:ext cx="8001000" cy="3845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rare, medium, well d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5943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medium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ll d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4479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rare</a:t>
            </a: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medium r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D3F-E3D3-47C5-B052-D90A6C2E32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up or soap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924280" cy="261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0" b="7874"/>
          <a:stretch/>
        </p:blipFill>
        <p:spPr>
          <a:xfrm>
            <a:off x="1523880" y="3505320"/>
            <a:ext cx="222120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C4C-2A1C-4BFF-8C9C-47C1C62F34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a</cp:lastModifiedBy>
  <dcterms:modified xsi:type="dcterms:W3CDTF">2011-11-21T17:06:35Z</dcterms:modified>
  <cp:revision>1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